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E09-F6AA-4F66-A9B0-30E2808C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534-689D-4E11-BE16-155CB21D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D0A-5D55-4344-80BC-9E597812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35B-5FE3-4803-8CAA-5EC91C87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12C-9380-4932-92A2-9F7762F7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D9A-45D2-4C30-A6BE-61A30299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830-54CA-4AAF-958F-0C9F95B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9F9-F7E7-4D2C-B7F5-D50A9DD6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EB0-CFAE-4CE0-95D8-DB3B7C6F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ACA-7A31-4095-85A9-E2234595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0F4-79F5-4D31-90A9-C2992A0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889-3AA1-4F13-9776-A2C5103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D63-BF69-41D6-946A-C21CA52574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wax.c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Cassandra Blou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4120" y="457200"/>
            <a:ext cx="6035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54120" y="228600"/>
            <a:ext cx="6035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wax was easy but weird for me to naviga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took me a while to get exactly what I wan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will use it later for resear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3:07:40Z</dcterms:created>
  <dc:creator>training</dc:creator>
  <dc:description/>
  <dc:language>en-US</dc:language>
  <cp:lastModifiedBy>training</cp:lastModifiedBy>
  <dcterms:modified xsi:type="dcterms:W3CDTF">2012-04-14T17:06:16Z</dcterms:modified>
  <cp:revision>5</cp:revision>
  <dc:subject/>
  <dc:title>Surfwax.com</dc:title>
</cp:coreProperties>
</file>